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at is the unit in each case?  10, 1/3, x – same thinking (7+3)x = 11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tudent used doubling, then adding, then 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tudent shows understanding of equivalence (a=b, c=d, a+c=b+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 minute to think, then turn and ta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5 minutes, then turn and ta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 will use this during ou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61F26-211D-4A30-9B60-78BEF8F170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83424-CBE8-4637-B486-25B4F2C81F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3E318-6BCD-450A-A61A-D9E49A1F4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EF0C3-9F9D-48C0-AC53-4781A97E75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BA6C3-66B3-4DA5-877E-DFFC18C919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28030-618E-412C-BBB3-C508141088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67F67-60BF-4B04-A2D5-5D0035C74F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A6C6D-9EA1-4A1C-ABE6-7C18DDB5D3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B7716-1DD1-40A9-B527-41EA6C1F5A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94402-B758-414E-A785-AEBA89AE6F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763CC-4DE9-4018-B651-5336466E93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6AB3E-46F6-432E-89C6-74BD13E815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087E-287E-4A5A-8983-B072BEE649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eaching_History_JERRY_SEINFELD_SNL_.mov" TargetMode="External"/><Relationship Id="rId2" Type="http://schemas.openxmlformats.org/officeDocument/2006/relationships/hyperlink" Target="file:///Teaching_History_JERRY_SEINFELD_SNL_.mov" TargetMode="External"/><Relationship Id="rId3" Type="http://schemas.openxmlformats.org/officeDocument/2006/relationships/hyperlink" Target="file:///Teaching_History_JERRY_SEINFELD_SNL_.mov" TargetMode="External"/><Relationship Id="rId4" Type="http://schemas.openxmlformats.org/officeDocument/2006/relationships/hyperlink" Target="file:///PeerFeedbackMathTalkSmall.wmv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BF46-8A8C-411A-8818-53EF3CF701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4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90360"/>
            <a:ext cx="84582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2b5ca9"/>
                </a:solidFill>
                <a:latin typeface="Arial"/>
              </a:rPr>
              <a:t>Conceptual Understanding Matters. . .</a:t>
            </a:r>
            <a:endParaRPr b="0" lang="en-US" sz="4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520" y="160020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r example, there is a tight integration of number and operat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.          is 2  plus      ; it is also 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.      is 3 divided by 5 ; it is also 3 times      ; it ha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alue of 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3F06-E748-4B0B-9623-B16AFBBE95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1"/>
              <p:cNvSpPr txBox="1"/>
              <p:nvPr/>
            </p:nvSpPr>
            <p:spPr>
              <a:xfrm>
                <a:off x="1911240" y="4038480"/>
                <a:ext cx="2224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3"/>
              <p:cNvSpPr txBox="1"/>
              <p:nvPr/>
            </p:nvSpPr>
            <p:spPr>
              <a:xfrm>
                <a:off x="6985080" y="4038480"/>
                <a:ext cx="2221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1924200" y="3048120"/>
                <a:ext cx="514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3952800" y="3124080"/>
                <a:ext cx="2383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asoning about the unit….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ven “units” plus four “units” gives eleven “uni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ade 2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Grade 7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Grade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70 + 40 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 +       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7x + 4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1916-25AD-476E-A638-446828F671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1"/>
              <p:cNvSpPr txBox="1"/>
              <p:nvPr/>
            </p:nvSpPr>
            <p:spPr>
              <a:xfrm>
                <a:off x="3581280" y="4159080"/>
                <a:ext cx="30492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3"/>
              <p:cNvSpPr txBox="1"/>
              <p:nvPr/>
            </p:nvSpPr>
            <p:spPr>
              <a:xfrm>
                <a:off x="4572000" y="4159080"/>
                <a:ext cx="30492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-290520"/>
            <a:ext cx="8229600" cy="18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asoning about relationships… 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3962520" y="5950080"/>
            <a:ext cx="495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ffffff"/>
                </a:solidFill>
                <a:latin typeface="Arial"/>
              </a:rPr>
              <a:t>Extending Children's Mathematics Fractions and Decimal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ffffff"/>
                </a:solidFill>
                <a:latin typeface="Arial"/>
              </a:rPr>
              <a:t>Innovations in Cognitively Guided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ffffff"/>
                </a:solidFill>
                <a:latin typeface="Arial"/>
              </a:rPr>
              <a:t>By Susan B. Empson and Linda Lev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0"/>
          <p:cNvGrpSpPr/>
          <p:nvPr/>
        </p:nvGrpSpPr>
        <p:grpSpPr>
          <a:xfrm>
            <a:off x="457200" y="1057320"/>
            <a:ext cx="7067520" cy="4429080"/>
            <a:chOff x="457200" y="1057320"/>
            <a:chExt cx="7067520" cy="4429080"/>
          </a:xfrm>
        </p:grpSpPr>
        <p:pic>
          <p:nvPicPr>
            <p:cNvPr id="102" name="Picture 2" descr=""/>
            <p:cNvPicPr/>
            <p:nvPr/>
          </p:nvPicPr>
          <p:blipFill>
            <a:blip r:embed="rId1"/>
            <a:stretch/>
          </p:blipFill>
          <p:spPr>
            <a:xfrm>
              <a:off x="2590560" y="1387440"/>
              <a:ext cx="3657600" cy="409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8" descr=""/>
            <p:cNvPicPr/>
            <p:nvPr/>
          </p:nvPicPr>
          <p:blipFill>
            <a:blip r:embed="rId2"/>
            <a:stretch/>
          </p:blipFill>
          <p:spPr>
            <a:xfrm>
              <a:off x="1904760" y="1057320"/>
              <a:ext cx="561996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Rectangle 10"/>
            <p:cNvSpPr/>
            <p:nvPr/>
          </p:nvSpPr>
          <p:spPr>
            <a:xfrm>
              <a:off x="2819160" y="4114800"/>
              <a:ext cx="2590920" cy="10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4" descr=""/>
            <p:cNvPicPr/>
            <p:nvPr/>
          </p:nvPicPr>
          <p:blipFill>
            <a:blip r:embed="rId3"/>
            <a:stretch/>
          </p:blipFill>
          <p:spPr>
            <a:xfrm>
              <a:off x="457200" y="4343400"/>
              <a:ext cx="3200400" cy="75240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90360"/>
            <a:ext cx="84582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asoning about Multiplication…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4120" y="18666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of “groups of” and repeated ad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.  Multip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50F4-9EAC-4652-A8C9-85B97464F0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4"/>
              <p:cNvSpPr txBox="1"/>
              <p:nvPr/>
            </p:nvSpPr>
            <p:spPr>
              <a:xfrm>
                <a:off x="3174840" y="2895480"/>
                <a:ext cx="965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×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Cloud Callout 5"/>
          <p:cNvSpPr/>
          <p:nvPr/>
        </p:nvSpPr>
        <p:spPr>
          <a:xfrm>
            <a:off x="5410080" y="2590920"/>
            <a:ext cx="2895840" cy="1676160"/>
          </a:xfrm>
          <a:prstGeom prst="cloudCallout">
            <a:avLst>
              <a:gd name="adj1" fmla="val -85995"/>
              <a:gd name="adj2" fmla="val -41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x  groups of two and two third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istributive Intuition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BB24-EA27-4151-96DD-F4F1898BB1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Content Placeholder 4"/>
              <p:cNvSpPr txBox="1"/>
              <p:nvPr/>
            </p:nvSpPr>
            <p:spPr>
              <a:xfrm>
                <a:off x="322200" y="2770200"/>
                <a:ext cx="166392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×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4" name="Group 4"/>
          <p:cNvGrpSpPr/>
          <p:nvPr/>
        </p:nvGrpSpPr>
        <p:grpSpPr>
          <a:xfrm>
            <a:off x="4267080" y="2222640"/>
            <a:ext cx="4361040" cy="1981080"/>
            <a:chOff x="4267080" y="2222640"/>
            <a:chExt cx="4361040" cy="1981080"/>
          </a:xfrm>
        </p:grpSpPr>
        <p:sp>
          <p:nvSpPr>
            <p:cNvPr id="115" name="Rectangle 20"/>
            <p:cNvSpPr/>
            <p:nvPr/>
          </p:nvSpPr>
          <p:spPr>
            <a:xfrm>
              <a:off x="5721120" y="2957400"/>
              <a:ext cx="1447920" cy="228600"/>
            </a:xfrm>
            <a:prstGeom prst="rect">
              <a:avLst/>
            </a:prstGeom>
            <a:solidFill>
              <a:srgbClr val="4597a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3"/>
            <p:cNvGrpSpPr/>
            <p:nvPr/>
          </p:nvGrpSpPr>
          <p:grpSpPr>
            <a:xfrm>
              <a:off x="4267080" y="2222640"/>
              <a:ext cx="4361040" cy="1981080"/>
              <a:chOff x="4267080" y="2222640"/>
              <a:chExt cx="4361040" cy="1981080"/>
            </a:xfrm>
          </p:grpSpPr>
          <p:sp>
            <p:nvSpPr>
              <p:cNvPr id="117" name="Rectangle 8"/>
              <p:cNvSpPr/>
              <p:nvPr/>
            </p:nvSpPr>
            <p:spPr>
              <a:xfrm>
                <a:off x="4267080" y="2222640"/>
                <a:ext cx="14479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9"/>
              <p:cNvSpPr/>
              <p:nvPr/>
            </p:nvSpPr>
            <p:spPr>
              <a:xfrm>
                <a:off x="5717880" y="2222640"/>
                <a:ext cx="14479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0"/>
              <p:cNvSpPr/>
              <p:nvPr/>
            </p:nvSpPr>
            <p:spPr>
              <a:xfrm>
                <a:off x="7166160" y="2224440"/>
                <a:ext cx="1447560" cy="228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1"/>
              <p:cNvSpPr/>
              <p:nvPr/>
            </p:nvSpPr>
            <p:spPr>
              <a:xfrm>
                <a:off x="8148960" y="222408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4"/>
              <p:cNvSpPr/>
              <p:nvPr/>
            </p:nvSpPr>
            <p:spPr>
              <a:xfrm>
                <a:off x="4268520" y="2603520"/>
                <a:ext cx="14479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5"/>
              <p:cNvSpPr/>
              <p:nvPr/>
            </p:nvSpPr>
            <p:spPr>
              <a:xfrm>
                <a:off x="5719680" y="2603520"/>
                <a:ext cx="14479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6"/>
              <p:cNvSpPr/>
              <p:nvPr/>
            </p:nvSpPr>
            <p:spPr>
              <a:xfrm>
                <a:off x="7167960" y="2605320"/>
                <a:ext cx="1447560" cy="228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7"/>
              <p:cNvSpPr/>
              <p:nvPr/>
            </p:nvSpPr>
            <p:spPr>
              <a:xfrm>
                <a:off x="8150400" y="260496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9"/>
              <p:cNvSpPr/>
              <p:nvPr/>
            </p:nvSpPr>
            <p:spPr>
              <a:xfrm>
                <a:off x="4275000" y="2954520"/>
                <a:ext cx="14461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1"/>
              <p:cNvSpPr/>
              <p:nvPr/>
            </p:nvSpPr>
            <p:spPr>
              <a:xfrm>
                <a:off x="7173360" y="2955600"/>
                <a:ext cx="1447560" cy="228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2"/>
              <p:cNvSpPr/>
              <p:nvPr/>
            </p:nvSpPr>
            <p:spPr>
              <a:xfrm>
                <a:off x="8156880" y="2955960"/>
                <a:ext cx="4554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4"/>
              <p:cNvSpPr/>
              <p:nvPr/>
            </p:nvSpPr>
            <p:spPr>
              <a:xfrm>
                <a:off x="4275000" y="3289320"/>
                <a:ext cx="14461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"/>
              <p:cNvSpPr/>
              <p:nvPr/>
            </p:nvSpPr>
            <p:spPr>
              <a:xfrm>
                <a:off x="5726160" y="3289320"/>
                <a:ext cx="14479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6"/>
              <p:cNvSpPr/>
              <p:nvPr/>
            </p:nvSpPr>
            <p:spPr>
              <a:xfrm>
                <a:off x="7173360" y="3291120"/>
                <a:ext cx="1447560" cy="228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7"/>
              <p:cNvSpPr/>
              <p:nvPr/>
            </p:nvSpPr>
            <p:spPr>
              <a:xfrm>
                <a:off x="8156880" y="3291120"/>
                <a:ext cx="4554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9"/>
              <p:cNvSpPr/>
              <p:nvPr/>
            </p:nvSpPr>
            <p:spPr>
              <a:xfrm>
                <a:off x="4267080" y="3668760"/>
                <a:ext cx="14479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30"/>
              <p:cNvSpPr/>
              <p:nvPr/>
            </p:nvSpPr>
            <p:spPr>
              <a:xfrm>
                <a:off x="5717880" y="3668760"/>
                <a:ext cx="14479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31"/>
              <p:cNvSpPr/>
              <p:nvPr/>
            </p:nvSpPr>
            <p:spPr>
              <a:xfrm>
                <a:off x="7166160" y="3670560"/>
                <a:ext cx="1447560" cy="228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32"/>
              <p:cNvSpPr/>
              <p:nvPr/>
            </p:nvSpPr>
            <p:spPr>
              <a:xfrm>
                <a:off x="8148960" y="367056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281120" y="3973680"/>
                <a:ext cx="14479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5732280" y="3973680"/>
                <a:ext cx="1447920" cy="228600"/>
              </a:xfrm>
              <a:prstGeom prst="rect">
                <a:avLst/>
              </a:prstGeom>
              <a:solidFill>
                <a:srgbClr val="4597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7180560" y="3975480"/>
                <a:ext cx="1447560" cy="228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8163000" y="3975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Cloud Callout 43"/>
          <p:cNvSpPr/>
          <p:nvPr/>
        </p:nvSpPr>
        <p:spPr>
          <a:xfrm>
            <a:off x="2895480" y="4876920"/>
            <a:ext cx="2286000" cy="1447560"/>
          </a:xfrm>
          <a:prstGeom prst="cloudCallout">
            <a:avLst>
              <a:gd name="adj1" fmla="val 38236"/>
              <a:gd name="adj2" fmla="val -83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6 groups of  2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loud Callout 44"/>
          <p:cNvSpPr/>
          <p:nvPr/>
        </p:nvSpPr>
        <p:spPr>
          <a:xfrm>
            <a:off x="6242040" y="4724280"/>
            <a:ext cx="2386080" cy="1219320"/>
          </a:xfrm>
          <a:prstGeom prst="cloudCallout">
            <a:avLst>
              <a:gd name="adj1" fmla="val 8379"/>
              <a:gd name="adj2" fmla="val -1126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6 groups of  2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47"/>
          <p:cNvGrpSpPr/>
          <p:nvPr/>
        </p:nvGrpSpPr>
        <p:grpSpPr>
          <a:xfrm>
            <a:off x="3886200" y="1973160"/>
            <a:ext cx="3394080" cy="2594160"/>
            <a:chOff x="3886200" y="1973160"/>
            <a:chExt cx="3394080" cy="2594160"/>
          </a:xfrm>
        </p:grpSpPr>
        <p:sp>
          <p:nvSpPr>
            <p:cNvPr id="143" name="Oval 45"/>
            <p:cNvSpPr/>
            <p:nvPr/>
          </p:nvSpPr>
          <p:spPr>
            <a:xfrm>
              <a:off x="3886200" y="1973160"/>
              <a:ext cx="3394080" cy="259416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46"/>
            <p:cNvSpPr/>
            <p:nvPr/>
          </p:nvSpPr>
          <p:spPr>
            <a:xfrm>
              <a:off x="5045400" y="2517840"/>
              <a:ext cx="1424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6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51"/>
          <p:cNvGrpSpPr/>
          <p:nvPr/>
        </p:nvGrpSpPr>
        <p:grpSpPr>
          <a:xfrm>
            <a:off x="7124760" y="2100240"/>
            <a:ext cx="1386000" cy="2259000"/>
            <a:chOff x="7124760" y="2100240"/>
            <a:chExt cx="1386000" cy="2259000"/>
          </a:xfrm>
        </p:grpSpPr>
        <p:sp>
          <p:nvSpPr>
            <p:cNvPr id="146" name="Oval 49"/>
            <p:cNvSpPr/>
            <p:nvPr/>
          </p:nvSpPr>
          <p:spPr>
            <a:xfrm>
              <a:off x="7124760" y="2100240"/>
              <a:ext cx="1219320" cy="225900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50"/>
            <p:cNvSpPr/>
            <p:nvPr/>
          </p:nvSpPr>
          <p:spPr>
            <a:xfrm>
              <a:off x="7291440" y="2526120"/>
              <a:ext cx="121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6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"/>
          <p:cNvGrpSpPr/>
          <p:nvPr/>
        </p:nvGrpSpPr>
        <p:grpSpPr>
          <a:xfrm>
            <a:off x="193680" y="1262160"/>
            <a:ext cx="4911840" cy="1030320"/>
            <a:chOff x="193680" y="1262160"/>
            <a:chExt cx="4911840" cy="1030320"/>
          </a:xfrm>
        </p:grpSpPr>
        <p:sp>
          <p:nvSpPr>
            <p:cNvPr id="149" name="Cloud Callout 50"/>
            <p:cNvSpPr/>
            <p:nvPr/>
          </p:nvSpPr>
          <p:spPr>
            <a:xfrm>
              <a:off x="193680" y="1262160"/>
              <a:ext cx="4911840" cy="1030320"/>
            </a:xfrm>
            <a:prstGeom prst="cloudCallout">
              <a:avLst>
                <a:gd name="adj1" fmla="val -13935"/>
                <a:gd name="adj2" fmla="val 9993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8"/>
            <p:cNvSpPr/>
            <p:nvPr/>
          </p:nvSpPr>
          <p:spPr>
            <a:xfrm>
              <a:off x="474480" y="1662120"/>
              <a:ext cx="1447920" cy="230040"/>
            </a:xfrm>
            <a:prstGeom prst="rect">
              <a:avLst/>
            </a:prstGeom>
            <a:solidFill>
              <a:srgbClr val="4597a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9"/>
            <p:cNvSpPr/>
            <p:nvPr/>
          </p:nvSpPr>
          <p:spPr>
            <a:xfrm>
              <a:off x="1925640" y="1662120"/>
              <a:ext cx="1447920" cy="230040"/>
            </a:xfrm>
            <a:prstGeom prst="rect">
              <a:avLst/>
            </a:prstGeom>
            <a:solidFill>
              <a:srgbClr val="4597a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0"/>
            <p:cNvSpPr/>
            <p:nvPr/>
          </p:nvSpPr>
          <p:spPr>
            <a:xfrm>
              <a:off x="3373560" y="1664640"/>
              <a:ext cx="144792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9"/>
            <p:cNvSpPr/>
            <p:nvPr/>
          </p:nvSpPr>
          <p:spPr>
            <a:xfrm>
              <a:off x="4370760" y="1665360"/>
              <a:ext cx="4572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4" name="Object 5"/>
              <p:cNvSpPr txBox="1"/>
              <p:nvPr/>
            </p:nvSpPr>
            <p:spPr>
              <a:xfrm>
                <a:off x="2209680" y="3289320"/>
                <a:ext cx="11638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Introduction to Area Mode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rom Count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ups / Arr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Measur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mensions /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62A1-38CA-418B-A23B-AF09A0ACEC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2481120" cy="2038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5529240" y="3809880"/>
            <a:ext cx="2090880" cy="1578240"/>
          </a:xfrm>
          <a:prstGeom prst="rect">
            <a:avLst/>
          </a:prstGeom>
          <a:ln w="0">
            <a:noFill/>
          </a:ln>
        </p:spPr>
      </p:pic>
      <p:sp>
        <p:nvSpPr>
          <p:cNvPr id="160" name="Cloud Callout 7"/>
          <p:cNvSpPr/>
          <p:nvPr/>
        </p:nvSpPr>
        <p:spPr>
          <a:xfrm>
            <a:off x="1600200" y="2751120"/>
            <a:ext cx="3243240" cy="811080"/>
          </a:xfrm>
          <a:prstGeom prst="cloudCallout">
            <a:avLst>
              <a:gd name="adj1" fmla="val 62888"/>
              <a:gd name="adj2" fmla="val -556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4 + 4 + 4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loud Callout 11"/>
          <p:cNvSpPr/>
          <p:nvPr/>
        </p:nvSpPr>
        <p:spPr>
          <a:xfrm>
            <a:off x="1981080" y="4983120"/>
            <a:ext cx="3243240" cy="811080"/>
          </a:xfrm>
          <a:prstGeom prst="cloudCallout">
            <a:avLst>
              <a:gd name="adj1" fmla="val 62888"/>
              <a:gd name="adj2" fmla="val -556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3 x 4 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arning Activity: 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understand how work with fractions supports relational thinking and algebraic reason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explore the area model to represent part to whole relationships and fraction oper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practice interpretive listening and questioning as students and teac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C708-9665-40EC-AC24-47DBECFAF3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 </a:t>
            </a: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hoose your Teacher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ick one person from your group to act as the “teacher” for the learning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will leave for a few minutes to “prep” the learning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FFF2-E566-4CB5-AC6D-D8A8A4AB8C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Stems for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a set of question “stems” that you will use during the learning activity to promote interpretive listening and questio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your stems on a tent card at you table for quick re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6018-ABA4-4791-922B-75A5C8D8F9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arning Activit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ork through the questions as a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actice Listening and Questioning to understand and build on each other’s thin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Students: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stening / questioning to lea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eachers: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stening/questioning to understand and push thin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cord your thinking on chart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6F59-C31A-4184-9015-9DB3F383D95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the opportunity to explore, practice, and discu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ing and questioning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le of teachers and students in a learning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nection between number sense, fractions and alg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 area model supports math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B22D-F29B-43DD-9C5C-5FD125D0E7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arning Activity Ques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present 144 using the base 10 blocks.  Show several different arrangements.  Write equivalent expressions that reflect these arrang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w suppose the big square represents 1.  What do your arrangements illustr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w suppose the big square represents x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  What do your arrangements re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8450-CAA3-4B58-9D37-7AEEE7B7C7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560" y="121896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Teachers: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id you notice about listening / questioning while you were playing the role of the teac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Students: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was your experience with listening / questioning while you were lea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Both: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 you have any Lingering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Wonder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6EA4-7168-4D18-9C02-246A2CF3DA2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oup Norm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deas will be listened to carefully and responded to respect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have a vo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questions and comments will be presented with the intent to move the collective forw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ing questions are wel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engage fully in the mo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5CF3-32F1-477A-98E3-64042B3D82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lassroom Vignett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F0C3-339E-40D9-A54F-40E4EBB0C0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atch this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erry </a:t>
            </a: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ienfeld</a:t>
            </a: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teaches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d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Grade 8 : The Pythagorean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hat do you Notice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re the key differences between the two “classes”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 the role of the teac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 the role of the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7150-A42A-4379-90CB-E83D1320DE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ath Talk Learning Community Research Synopsi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1640" y="1981080"/>
            <a:ext cx="4267080" cy="236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erson A – top half of p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erson B – bottom half of p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erson C – p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erson D – p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erson E – your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63A6-6698-4849-9EF8-1D988DE6F9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533520" y="1917720"/>
            <a:ext cx="3733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ad your part of the arti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 the highlights with your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Interpretive Listening and Questio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3520" y="1828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a Frayer Model for interpretive listening and question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A2CB-46D7-4FC2-AD26-1E43FD25D7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Canvas 1"/>
          <p:cNvGrpSpPr/>
          <p:nvPr/>
        </p:nvGrpSpPr>
        <p:grpSpPr>
          <a:xfrm>
            <a:off x="2514600" y="2819520"/>
            <a:ext cx="5486400" cy="3200400"/>
            <a:chOff x="2514600" y="2819520"/>
            <a:chExt cx="5486400" cy="3200400"/>
          </a:xfrm>
        </p:grpSpPr>
        <p:sp>
          <p:nvSpPr>
            <p:cNvPr id="70" name="Rectangle 16"/>
            <p:cNvSpPr/>
            <p:nvPr/>
          </p:nvSpPr>
          <p:spPr>
            <a:xfrm>
              <a:off x="2514600" y="2819520"/>
              <a:ext cx="5486400" cy="32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7"/>
            <p:cNvSpPr/>
            <p:nvPr/>
          </p:nvSpPr>
          <p:spPr>
            <a:xfrm>
              <a:off x="2800080" y="3076560"/>
              <a:ext cx="5124600" cy="2876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Straight Connector 18"/>
            <p:cNvSpPr/>
            <p:nvPr/>
          </p:nvSpPr>
          <p:spPr>
            <a:xfrm>
              <a:off x="5362560" y="3076560"/>
              <a:ext cx="0" cy="2876760"/>
            </a:xfrm>
            <a:prstGeom prst="line">
              <a:avLst/>
            </a:prstGeom>
            <a:ln w="255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Straight Connector 19"/>
            <p:cNvSpPr/>
            <p:nvPr/>
          </p:nvSpPr>
          <p:spPr>
            <a:xfrm>
              <a:off x="2800080" y="4515120"/>
              <a:ext cx="5124600" cy="0"/>
            </a:xfrm>
            <a:prstGeom prst="line">
              <a:avLst/>
            </a:prstGeom>
            <a:ln w="255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20"/>
            <p:cNvSpPr/>
            <p:nvPr/>
          </p:nvSpPr>
          <p:spPr>
            <a:xfrm>
              <a:off x="4572000" y="4029120"/>
              <a:ext cx="1600200" cy="981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6"/>
            <p:cNvSpPr/>
            <p:nvPr/>
          </p:nvSpPr>
          <p:spPr>
            <a:xfrm>
              <a:off x="4724280" y="4210200"/>
              <a:ext cx="12477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Interpretive Listening and Questio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6"/>
            <p:cNvSpPr/>
            <p:nvPr/>
          </p:nvSpPr>
          <p:spPr>
            <a:xfrm>
              <a:off x="2800080" y="3076560"/>
              <a:ext cx="12477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Defin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6"/>
            <p:cNvSpPr/>
            <p:nvPr/>
          </p:nvSpPr>
          <p:spPr>
            <a:xfrm>
              <a:off x="6694560" y="3076560"/>
              <a:ext cx="12477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Characteristi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6"/>
            <p:cNvSpPr/>
            <p:nvPr/>
          </p:nvSpPr>
          <p:spPr>
            <a:xfrm>
              <a:off x="2800080" y="4515120"/>
              <a:ext cx="12477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6"/>
            <p:cNvSpPr/>
            <p:nvPr/>
          </p:nvSpPr>
          <p:spPr>
            <a:xfrm>
              <a:off x="6534360" y="4515120"/>
              <a:ext cx="13906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Non-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arning Activity: 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understand how work with fractions supports relational thinking and algebraic reason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explore the area model to represent part to whole relationships and fraction oper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practice interpretive listening and questioning as students and teac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8A72-90B5-4770-90D7-6180CE17AF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90360"/>
            <a:ext cx="84582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2b5ca9"/>
                </a:solidFill>
                <a:latin typeface="Arial"/>
              </a:rPr>
              <a:t>Conceptual Understanding Matters. . .</a:t>
            </a:r>
            <a:endParaRPr b="0" lang="en-US" sz="4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6761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ractions offer students the opportunity to grapple with fundamental mathematical relationships that constitute the core of Algebra.”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4A8E-849F-4E73-9D6A-E440DE1110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3429000" y="3741840"/>
            <a:ext cx="495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Extending Children's Mathematics Fractions and Decimal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Innovations in Cognitively Guided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By Susan B. Empson and Linda Lev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David Petro</cp:lastModifiedBy>
  <dcterms:modified xsi:type="dcterms:W3CDTF">2012-08-21T18:00:53Z</dcterms:modified>
  <cp:revision>65</cp:revision>
  <dc:subject/>
  <dc:title>&lt;Title&gt;</dc:title>
</cp:coreProperties>
</file>